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5145088"/>
  <p:notesSz cx="9313863" cy="7027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313200" cy="70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5275080" y="-360"/>
            <a:ext cx="40352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2312640" y="527040"/>
            <a:ext cx="4686120" cy="2635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f7781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667332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5275080" y="6673320"/>
            <a:ext cx="40352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276C321-F71C-461D-A140-FD4EDB894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6023375-D2BB-493A-AB2E-94836604EC63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3AF6016-C80F-4DA5-9570-4D07778D673B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0348933A-BCF5-46B9-9EDC-0DDE4E32FDF0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6F1804C-8D10-4134-BBD0-7442C03E6A01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BA4A724-4C1D-4DE8-BAC5-D298A67066DE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A77A806-9E87-4347-A3DC-600F1CC62D38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D48D89F1-3F7A-4C3F-B74C-0FF935A1FF87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F26D0F8-4C04-479C-8745-0CA8BE6B44A2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BFFB67E-DDFC-40D5-B37C-DB404F5DE571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DA3E95E-A22E-47DE-9776-1C2C90CE4B71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043DCF9-0CCB-470D-AAFD-9AD62D210A26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gs HTML if Succes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iv class="suggestedItemsHeader sectionHeader customHeader"&gt;Tags&lt;/div&gt;&lt;div class="widget_container"&gt;[[WIDGET]]&lt;/div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Editions HTML if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iv class="suggestedItemsHeader sectionHeader customHeader"&gt;Other Editions&lt;/div&gt;&lt;div class="widget_container"&gt;[[WIDGET]]&lt;/div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iews Reviews link text if reviews pres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iv class="suggestedItemsHeader sectionHeader customHeader"&gt;LibraryThing Reviews&lt;/div&gt;Click to see reviews/add a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5FA8FB51-10A3-43B6-B2FE-40BF604A22B8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g.ltfl_cover_im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{ width:108px !importa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dding-left: 0px !importa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rame#LT_SB_iframe{ width:600px !important;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d.opbrowseCell{ border: none !important;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#original {color:#444 !important;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FF96C7A-AB0D-4C31-8240-AD338DC741EC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B507A58-4740-43FA-BABB-6ABA750670DE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F6199BD-9FBC-422B-BD53-22A033C07B41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csdirect.iii.com/manual_encore/Default.htm#encore_config_customizing_heade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DFC442E-9A18-4AA1-B133-C307A36CE666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api.jquery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0A659600-BD8E-4E18-AD5E-5CD30DCAE8AF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api.jquery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86E2CD7-75BF-4072-9482-FFE2F412FF94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AA678E5-DD15-48CB-A9F3-D4C96EC3E97C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B1EF3BF-B5B9-4D5F-8845-52A1CDAB3827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50E4A607-D1CA-4F55-9411-C9125AC274EC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E69B4B0-488B-4547-8896-3CBD4587FAFE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460D05A5-E917-4709-A900-1941B959978D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4868ECA0-F6E8-4C4B-8BEC-D75B27EB9746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3889A603-20D2-414A-B6E5-C8035529C5C3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26EFF40-69FB-43F2-A356-3E4CD3B5FDD3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143AF63-F9EB-4A35-8C3C-53878F675DD1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D3774EE8-F43E-4A08-AFAA-F0FC576EF191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90CA7E6-1FA5-446B-995F-35FF1A3D4F02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re information: http://csdirect.iii.com/manual_encore/Default.htm#encore_config_customizing_javascrip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3B3AD8DB-7D3B-49DE-B48B-A5200038B8BA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313000" y="527040"/>
            <a:ext cx="4686120" cy="2635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2040" y="3336840"/>
            <a:ext cx="74484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re information: http://csdirect.iii.com/manual_encore/Default.htm#encore_config_customizing_javascrip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275440" y="6673680"/>
            <a:ext cx="4035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4AA5640-5C76-4CBB-87E3-1E7F1F53FB7C}" type="slidenum">
              <a:rPr b="0" lang="en-US" sz="1200" spc="-1" strike="noStrike">
                <a:solidFill>
                  <a:srgbClr val="f76e1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440" y="267804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7832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948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616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44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3948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3616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42440" y="395280"/>
            <a:ext cx="7680600" cy="21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7832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2440" y="267804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37832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3948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3616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244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3948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3616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440" y="395280"/>
            <a:ext cx="7680600" cy="21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7832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440" y="267804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7832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3948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6160" y="100980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44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03948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36160" y="2678040"/>
            <a:ext cx="247284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42440" y="395280"/>
            <a:ext cx="7680600" cy="21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78320" y="267804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244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8320" y="1009800"/>
            <a:ext cx="374796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2440" y="2678040"/>
            <a:ext cx="7680600" cy="15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ontent slide3_bluegray.jpg"/>
          <p:cNvPicPr/>
          <p:nvPr/>
        </p:nvPicPr>
        <p:blipFill>
          <a:blip r:embed="rId2"/>
          <a:stretch/>
        </p:blipFill>
        <p:spPr>
          <a:xfrm>
            <a:off x="642960" y="28440"/>
            <a:ext cx="9182160" cy="516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f7781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2" marL="728640" indent="-125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3" marL="984240" indent="-127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4" marL="1157400" indent="-856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5" marL="1157400" indent="-85680">
              <a:lnSpc>
                <a:spcPct val="85000"/>
              </a:lnSpc>
              <a:spcBef>
                <a:spcPts val="451"/>
              </a:spcBef>
              <a:buClr>
                <a:srgbClr val="f76e1e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6" marL="1157400" indent="-85680">
              <a:lnSpc>
                <a:spcPct val="85000"/>
              </a:lnSpc>
              <a:spcBef>
                <a:spcPts val="451"/>
              </a:spcBef>
              <a:buClr>
                <a:srgbClr val="f76e1e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Content slide3_bluegray.jpg"/>
          <p:cNvPicPr/>
          <p:nvPr/>
        </p:nvPicPr>
        <p:blipFill>
          <a:blip r:embed="rId2"/>
          <a:stretch/>
        </p:blipFill>
        <p:spPr>
          <a:xfrm>
            <a:off x="642960" y="28440"/>
            <a:ext cx="9182160" cy="51688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Title_bluegray.jpg"/>
          <p:cNvPicPr/>
          <p:nvPr/>
        </p:nvPicPr>
        <p:blipFill>
          <a:blip r:embed="rId3"/>
          <a:stretch/>
        </p:blipFill>
        <p:spPr>
          <a:xfrm>
            <a:off x="-20520" y="0"/>
            <a:ext cx="9182160" cy="5168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f7781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2" marL="728640" indent="-125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3" marL="984240" indent="-127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4" marL="1157400" indent="-856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5" marL="1157400" indent="-85680">
              <a:lnSpc>
                <a:spcPct val="85000"/>
              </a:lnSpc>
              <a:spcBef>
                <a:spcPts val="451"/>
              </a:spcBef>
              <a:buClr>
                <a:srgbClr val="f76e1e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6" marL="1157400" indent="-85680">
              <a:lnSpc>
                <a:spcPct val="85000"/>
              </a:lnSpc>
              <a:spcBef>
                <a:spcPts val="451"/>
              </a:spcBef>
              <a:buClr>
                <a:srgbClr val="f76e1e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ontent slide3_bluegray.jpg"/>
          <p:cNvPicPr/>
          <p:nvPr/>
        </p:nvPicPr>
        <p:blipFill>
          <a:blip r:embed="rId2"/>
          <a:stretch/>
        </p:blipFill>
        <p:spPr>
          <a:xfrm>
            <a:off x="642960" y="28440"/>
            <a:ext cx="9182160" cy="516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Title_bluegray.jpg"/>
          <p:cNvPicPr/>
          <p:nvPr/>
        </p:nvPicPr>
        <p:blipFill>
          <a:blip r:embed="rId3"/>
          <a:stretch/>
        </p:blipFill>
        <p:spPr>
          <a:xfrm>
            <a:off x="-20520" y="0"/>
            <a:ext cx="9182160" cy="5168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2440" y="395280"/>
            <a:ext cx="7680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f7781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42440" y="1009800"/>
            <a:ext cx="7680600" cy="31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2" marL="728640" indent="-125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3" marL="984240" indent="-127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4" marL="1157400" indent="-856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5" marL="1157400" indent="-85680">
              <a:lnSpc>
                <a:spcPct val="85000"/>
              </a:lnSpc>
              <a:spcBef>
                <a:spcPts val="451"/>
              </a:spcBef>
              <a:buClr>
                <a:srgbClr val="f76e1e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lvl="6" marL="1157400" indent="-85680">
              <a:lnSpc>
                <a:spcPct val="85000"/>
              </a:lnSpc>
              <a:spcBef>
                <a:spcPts val="451"/>
              </a:spcBef>
              <a:buClr>
                <a:srgbClr val="f76e1e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ncoreJavaScriptScreenshot.p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NovelistBasic.png" TargetMode="External"/><Relationship Id="rId2" Type="http://schemas.openxmlformats.org/officeDocument/2006/relationships/hyperlink" Target="file:///NovelistBasic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NovelistCustomTop.png" TargetMode="External"/><Relationship Id="rId2" Type="http://schemas.openxmlformats.org/officeDocument/2006/relationships/hyperlink" Target="file:///NovelistCustomTop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developers.exlibrisgroup.com/resources/voyager/code_contributions/SyndeticsStarterDocument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AddSyndetics.png" TargetMode="External"/><Relationship Id="rId2" Type="http://schemas.openxmlformats.org/officeDocument/2006/relationships/hyperlink" Target="file:///AddSyndetics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AddLibraryThing.png" TargetMode="External"/><Relationship Id="rId2" Type="http://schemas.openxmlformats.org/officeDocument/2006/relationships/hyperlink" Target="file:///AddLibraryThing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ddLibraryThing.png" TargetMode="External"/><Relationship Id="rId2" Type="http://schemas.openxmlformats.org/officeDocument/2006/relationships/hyperlink" Target="file:///AddSectionHeader.png" TargetMode="External"/><Relationship Id="rId3" Type="http://schemas.openxmlformats.org/officeDocument/2006/relationships/hyperlink" Target="file:///AddSectionHeader.tx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librarything.com/forlibraries/" TargetMode="External"/><Relationship Id="rId2" Type="http://schemas.openxmlformats.org/officeDocument/2006/relationships/hyperlink" Target="https://www.librarything.com/forlibraries/" TargetMode="External"/><Relationship Id="rId3" Type="http://schemas.openxmlformats.org/officeDocument/2006/relationships/hyperlink" Target="file:///AddLibraryThingCustomHeader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librarything.com/forlibraries/" TargetMode="External"/><Relationship Id="rId2" Type="http://schemas.openxmlformats.org/officeDocument/2006/relationships/hyperlink" Target="https://www.librarything.com/forlibraries/" TargetMode="External"/><Relationship Id="rId3" Type="http://schemas.openxmlformats.org/officeDocument/2006/relationships/hyperlink" Target="file:///LibraryThingEncoreCSS.pn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ustomCSSfromJavascriptSection.png" TargetMode="External"/><Relationship Id="rId2" Type="http://schemas.openxmlformats.org/officeDocument/2006/relationships/hyperlink" Target="file:///AddCSSPreCustomHeader.txt" TargetMode="External"/><Relationship Id="rId3" Type="http://schemas.openxmlformats.org/officeDocument/2006/relationships/hyperlink" Target="file:///thirdpartystyle.cs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EncoreJavaScriptScreenshot.png" TargetMode="External"/><Relationship Id="rId2" Type="http://schemas.openxmlformats.org/officeDocument/2006/relationships/hyperlink" Target="file:///BarebonesEncoreJavascript.tx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ncoreJavaScriptScreenshot.p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nne01AllCustomizationOff.png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lue.jpg"/>
          <p:cNvPicPr/>
          <p:nvPr/>
        </p:nvPicPr>
        <p:blipFill>
          <a:blip r:embed="rId1"/>
          <a:stretch/>
        </p:blipFill>
        <p:spPr>
          <a:xfrm>
            <a:off x="-20520" y="0"/>
            <a:ext cx="9182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Custom Bottom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9120" y="1000080"/>
            <a:ext cx="746928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var targetDiv = document.getElementById("customBottom"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if (targetDiv) {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creenshot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Novelist Content in Custom Bottom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19120" y="1000080"/>
            <a:ext cx="746928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&lt;script type="text/javascript"&gt;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var targetDiv = document.getElementById("customBottom");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if (targetDiv) {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targetDiv.innerHTML = '&lt;div id="NoveListSelect"&gt;&lt;/div&gt;';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&lt;/script&gt;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&lt;script type="text/javascript" id="EIT" src="http://imageserver.ebscohost.com/eit/eitinit.js?auth=profile&amp;profile=</a:t>
            </a:r>
            <a:r>
              <a:rPr b="0" lang="en-US" sz="1900" spc="-1" strike="noStrike">
                <a:solidFill>
                  <a:srgbClr val="4a76b7"/>
                </a:solidFill>
                <a:latin typeface="Arial"/>
              </a:rPr>
              <a:t>[library profile]</a:t>
            </a: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&amp;pwd=</a:t>
            </a:r>
            <a:r>
              <a:rPr b="0" lang="en-US" sz="1900" spc="-1" strike="noStrike">
                <a:solidFill>
                  <a:srgbClr val="4a76b7"/>
                </a:solidFill>
                <a:latin typeface="Arial"/>
              </a:rPr>
              <a:t>[library password]&amp;</a:t>
            </a:r>
            <a:r>
              <a:rPr b="0" lang="en-US" sz="1900" spc="-1" strike="noStrike">
                <a:solidFill>
                  <a:srgbClr val="414042"/>
                </a:solidFill>
                <a:latin typeface="Arial"/>
              </a:rPr>
              <a:t>cfg=Y"&gt;&lt;/script&gt;</a:t>
            </a:r>
            <a:endParaRPr b="0" lang="en-US" sz="19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xample Screenshot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Novelist Div Example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9120" y="999720"/>
            <a:ext cx="746928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eries: &lt;div id='NoveListSeriesTitles'&gt;&lt;/div&gt;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imilar Series: &lt;div id='NoveListSimilarSeries'&gt;&lt;/div&gt;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imilar Titles: &lt;div id='NoveListSimilarTitles'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imilar Authors: &lt;div id='NoveListSimilarAuthors'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Related Content: &lt;div id='RelatedNoveListContent'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GoodReads: &lt;div id='NoveListGoodReads'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Lexile Info: &lt;div id='NoveListLexileInfo'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Custom Top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19120" y="999720"/>
            <a:ext cx="746928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var targetDiv = document.getElementById("customTop"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if (targetDiv) {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Adding Novelist Series and Review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9120" y="1000080"/>
            <a:ext cx="746928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var targetDiv = document.getElementById("customTop")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if (targetDiv) {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targetDiv.innerHTML =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'&lt;div id="NoveListSeriesTitles" class="NoveListSelect NoveListBookInfo"&gt;&lt;/div&gt;' +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'&lt;div id="NoveListGoodReads" class="NoveListSelect NoveListBookInfo NoveListGoodReads"&gt;&lt;/div&gt;'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xample Screenshot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Syndetic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9120" y="1000080"/>
            <a:ext cx="74692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yndetics script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script src="http://plus.syndetics.com/widget.php?id=</a:t>
            </a:r>
            <a:r>
              <a:rPr b="0" lang="en-US" sz="2400" spc="-1" strike="noStrike">
                <a:solidFill>
                  <a:srgbClr val="5087a4"/>
                </a:solidFill>
                <a:latin typeface="Arial"/>
              </a:rPr>
              <a:t>[library code]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" type="text/javascript"&gt;&lt;/script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Detailed info on available divs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developers.exlibrisgroup.com/resources/voyager/code_contributions/SyndeticsStarterDocument.pdf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Syndetics Example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9120" y="999720"/>
            <a:ext cx="746928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dding Summary in Custom Top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var targetDiv = document.getElementById("customTop")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if (targetDiv) {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targetDiv.innerHTML = '&lt;div id="syn_summary"&gt;&lt;/div&gt;' +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'&lt;div id="NoveListSeriesTitles" class="NoveListSelect NoveListBookInfo"&gt;&lt;/div&gt;' +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'&lt;div id="NoveListGoodReads" class="NoveListSelect NoveListBookInfo NoveListGoodReads"&gt;&lt;/div&gt;'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xample Screenshot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LibraryThing for Librarie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9120" y="1000080"/>
            <a:ext cx="746928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LibraryThing script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script src="http://ltfl.librarything.com/forlibraries/widget.js?id=</a:t>
            </a:r>
            <a:r>
              <a:rPr b="0" lang="en-US" sz="2400" spc="-1" strike="noStrike">
                <a:solidFill>
                  <a:srgbClr val="4a76b7"/>
                </a:solidFill>
                <a:latin typeface="Arial"/>
              </a:rPr>
              <a:t>[libraryid]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" type="text/javascript"&gt;&lt;/script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Basic Instructions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ttp://www.librarything.com/wiki/index.php/LTFL:Installation_instruction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LibraryThing Example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19120" y="1000080"/>
            <a:ext cx="746928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Adding tags and editions to the sidebar: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var targetDiv = document.getElementById("customSidebar")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if (targetDiv) {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targetDiv.innerHTML = '&lt;div id="ltfl_tagbrowse" class="ltfl"&gt;&lt;/div&gt;' +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'&lt;div id="ltfl_related" class="ltfl"&gt;&lt;/div&gt;&lt;br /&gt;&lt;br /&gt;'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xample Screenshot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Customizing Third-Party Cont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9120" y="999720"/>
            <a:ext cx="746928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ide div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Format display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0480" y="452160"/>
            <a:ext cx="47336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600" spc="-1" strike="noStrike">
                <a:solidFill>
                  <a:srgbClr val="f7941e"/>
                </a:solidFill>
                <a:latin typeface="Arial"/>
              </a:rPr>
              <a:t>Customizing Third-Party Content in Encore</a:t>
            </a:r>
            <a:endParaRPr b="1" lang="en-US" sz="36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20480" y="1836360"/>
            <a:ext cx="47336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m Stone-Logan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lains Library District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Adding Section Header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19120" y="999720"/>
            <a:ext cx="746928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efore Screenshot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div class="suggestedItemsHeader sectionHeader customHeader"&gt;Browse Additional Books and Media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Screenshot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LibraryThing Section Header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9120" y="999720"/>
            <a:ext cx="746928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Login to account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librarything.com/forlibrarie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nhancements → Configuration for specific Widge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xample Screenshot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4"/>
          <a:stretch/>
        </p:blipFill>
        <p:spPr>
          <a:xfrm>
            <a:off x="765000" y="2089080"/>
            <a:ext cx="8037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Customizing LibraryThing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19120" y="1000080"/>
            <a:ext cx="746928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Login to account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librarything.com/forlibraries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nhancements → Global Configuration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xample Screenshot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4"/>
          <a:stretch/>
        </p:blipFill>
        <p:spPr>
          <a:xfrm>
            <a:off x="933480" y="1874880"/>
            <a:ext cx="66308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Overriding Styles without Custom Header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19120" y="1558440"/>
            <a:ext cx="74692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LINK TYPE="text/css" REL="stylesheet" HREF="http://hpldsierraapp.mylibrary.us/screens/hpldstyle.css"&gt;&lt;/LINK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Used to tweak Novelist and Syndetics default style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xample Screenshot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JavaScript Code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xample CSS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Linking to JavaScript File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Encore’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JavaScript admin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 section is limited to 5000 characters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Additional JavaScript can be used by liking to an external file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Some JavaScript elements work better than others in an external file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&lt;script src="http://hpldsierraapp.mylibrary.us/screens/hpldcustom.js" type="text/javascript"&gt;&lt;/script&gt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ample JavaScript on Encore Server</a:t>
            </a: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 | Example external JavaScript Fil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Custom Header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stom Headers are supported in Encore 4.4+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elps standardize look and feel of Encore with other library resource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an be used to add jQuery library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lso allows for custom stylesheet for all of Encore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ust enter both an http and https version (https is used when patrons are logged in)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ierra Web Admin → Encore Customization → Header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Screenshot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Adding jQuery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19120" y="1193760"/>
            <a:ext cx="7469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jQuery expands Encore customization possibilities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Put jQuery in Encore’s JavaScript section instead of the external JavaScript file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What I currently use jQuery for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ake modifications to an elemen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ide element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ove element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ttp://api.jquery.com/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.ready()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9120" y="1193760"/>
            <a:ext cx="7469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5416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Used to make jQuery wait until it thinks DOM is fully loaded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$(document).ready(function() {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}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Selecting a class or id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9120" y="1193760"/>
            <a:ext cx="7469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#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 hash is used to refer to a div id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 period is used to refer to a div clas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ttps://learn.jquery.com/using-jquery-core/faq/how-do-i-select-an-item-using-class-or-id/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How to find an elem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Right click where you want the content to go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Depending on the browser choose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Internet Explorer &amp; Firefox: “Inspect Element”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Chrome: “Inspect”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88960" y="2428920"/>
            <a:ext cx="5829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600" spc="-1" strike="noStrike">
                <a:solidFill>
                  <a:srgbClr val="f7781e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8760" y="998280"/>
            <a:ext cx="3716280" cy="32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Caveats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Third-Party Content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Novelist, Syndetics &amp; LibraryThing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Adding Section Headers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Customizing LibraryThing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Overwriting Existing Styles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</a:rPr>
              <a:t>Linking to JavaScript File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131" name="Content Placeholder 4"/>
          <p:cNvSpPr/>
          <p:nvPr/>
        </p:nvSpPr>
        <p:spPr>
          <a:xfrm>
            <a:off x="4387680" y="998640"/>
            <a:ext cx="371664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  <a:ea typeface="Arial"/>
              </a:rPr>
              <a:t>Custom Header</a:t>
            </a: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  <a:ea typeface="Arial"/>
              </a:rPr>
              <a:t>Using jQuery</a:t>
            </a: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 lvl="1" marL="514440" indent="-12708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  <a:ea typeface="Arial"/>
              </a:rPr>
              <a:t>Modify an Element</a:t>
            </a:r>
            <a:endParaRPr b="0" lang="en-US" sz="1500" spc="-1" strike="noStrike">
              <a:solidFill>
                <a:srgbClr val="f76e1e"/>
              </a:solidFill>
              <a:latin typeface="Open Sans Light"/>
            </a:endParaRPr>
          </a:p>
          <a:p>
            <a:pPr lvl="1" marL="514440" indent="-12708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  <a:ea typeface="Arial"/>
              </a:rPr>
              <a:t>Hide an Element</a:t>
            </a:r>
            <a:endParaRPr b="0" lang="en-US" sz="1500" spc="-1" strike="noStrike">
              <a:solidFill>
                <a:srgbClr val="f76e1e"/>
              </a:solidFill>
              <a:latin typeface="Open Sans Light"/>
            </a:endParaRPr>
          </a:p>
          <a:p>
            <a:pPr lvl="1" marL="514440" indent="-12708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  <a:ea typeface="Arial"/>
              </a:rPr>
              <a:t>Move an Element</a:t>
            </a:r>
            <a:endParaRPr b="0" lang="en-US" sz="15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  <a:ea typeface="Arial"/>
              </a:rPr>
              <a:t>Using Inspect Element</a:t>
            </a: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  <a:ea typeface="Arial"/>
              </a:rPr>
              <a:t>Troubleshooting</a:t>
            </a: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414042"/>
                </a:solidFill>
                <a:latin typeface="Arial"/>
                <a:ea typeface="Arial"/>
              </a:rPr>
              <a:t>HPLD Full Bib Customization</a:t>
            </a: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How to find an elem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pic>
        <p:nvPicPr>
          <p:cNvPr id="188" name="Content Placeholder 1" descr=""/>
          <p:cNvPicPr/>
          <p:nvPr/>
        </p:nvPicPr>
        <p:blipFill>
          <a:blip r:embed="rId1"/>
          <a:stretch/>
        </p:blipFill>
        <p:spPr>
          <a:xfrm>
            <a:off x="843120" y="1325520"/>
            <a:ext cx="68212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Make Modifications to an Elem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ncore’s “Popular Choices” and “Browse Results” sections can sometimes cause Syndetics to display content for the wrong title. This is fixed by adding a “syn_skipthis” class to the offending div.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ccording to a Sierra listserv message, this is something that III Support has fixed for at least one library.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Make Modifications to an Elem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9120" y="1193760"/>
            <a:ext cx="746928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If you don’t want to wait for support, insert into JavaScript: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// Here we're moving everything around to where we really wanted things to show up and hiding some of the Novelist content.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$(document).ready(function() {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$("#prevNextResultNavigator").addClass("syn_skipthis")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$("#bestBetsAnyComponent").addClass("syn_skipthis")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14042"/>
                </a:solidFill>
                <a:latin typeface="Arial"/>
              </a:rPr>
              <a:t>});</a:t>
            </a: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414042"/>
              </a:solidFill>
              <a:latin typeface="Arial"/>
            </a:endParaRPr>
          </a:p>
          <a:p>
            <a:pPr lvl="3" marL="24624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Hide Elem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9120" y="1193760"/>
            <a:ext cx="746928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Problem: “Extra” Syndetics content kept reappearing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olution: use jQuery to hid i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To hide the content: $(".enrichedContentList").hide(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To hide the “Extra” label: $(".bibInfoHeader").hide(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Example Screenshot | 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Move Element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after () - inserts content after specified elemen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before() - inserts content before specified elemen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append() - inserts content as the last child of each elemen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prepend() - inserts content as the first child of each elemen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.after() vs .append()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after()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div class="dpBibAuthor"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div id="NoveListGoodReads"&gt;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.append()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div class="dpBibAuthor“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div id="NoveListGoodReads“&gt;&lt;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&lt;/div&gt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Move Elem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19120" y="1193400"/>
            <a:ext cx="74692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ove Items to show above summary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$("#customTop").before($(".ItemsContainer")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ove Goodreads ratings to be at the top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$(".dpBibAuthor").after($("#NoveListGoodReads"));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 lvl="3" marL="25416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414042"/>
                </a:solidFill>
                <a:latin typeface="Arial"/>
              </a:rPr>
              <a:t>Example Screenshot | Example Code</a:t>
            </a: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Troubleshooting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9120" y="1193760"/>
            <a:ext cx="746928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If Encore is having trouble try turning off custom headers and JavaScript.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2858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If your customization is having trouble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Double check for typo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Use the browser Inspect Element feature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Revert back to working customization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Double check the third-party service isn’t down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3" marL="539640" indent="-285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Try different browser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HPLD Full Bib Customization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19120" y="1193760"/>
            <a:ext cx="7469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Full Bib Customization Screensho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ncore Javascrip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xternal Javascrip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stom Header Example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dditional CS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4480" y="1418760"/>
            <a:ext cx="4097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f7941e"/>
                </a:solidFill>
                <a:latin typeface="Arial"/>
              </a:rPr>
              <a:t>Contact Info:</a:t>
            </a:r>
            <a:endParaRPr b="1" lang="en-US" sz="24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90400" y="1917360"/>
            <a:ext cx="40975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m Stone-Loga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lains Library Distric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stone-logan@highplains.us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mstonelogan@gmail.com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  <p:sp>
        <p:nvSpPr>
          <p:cNvPr id="207" name="Title 12"/>
          <p:cNvSpPr/>
          <p:nvPr/>
        </p:nvSpPr>
        <p:spPr>
          <a:xfrm>
            <a:off x="474840" y="290520"/>
            <a:ext cx="4097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f7941e"/>
                </a:solidFill>
                <a:latin typeface="Arial"/>
                <a:ea typeface="Arial"/>
              </a:rPr>
              <a:t>Questions?</a:t>
            </a:r>
            <a:endParaRPr b="0" lang="en-US" sz="2400" spc="-1" strike="noStrike">
              <a:solidFill>
                <a:srgbClr val="f76e1e"/>
              </a:solidFill>
              <a:latin typeface="Open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000080"/>
            <a:ext cx="746928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igh Plains Library Distric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Public library system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igrated to Sierra, from Horizon, in November 2014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rrent Sierra Version 1.2.3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rrent Encore Version 4.4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round 80,000 patrons have used us within the last year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ollection contains around 370,500 Bib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pproximately 13 locations that lend physical item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9120" y="999720"/>
            <a:ext cx="746928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stomizations are risky – upgrades can break them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ach library system is going to have unique customizations that may not be appropriate for another system.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lways, always save existing customizations before trying something new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I like to learn new tips. Please tell me if I’m wrong or when there’s a better approach.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Third-Party Cont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9120" y="1000080"/>
            <a:ext cx="746928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Provide more information to patron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Helps create an online browsing environmen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Summaries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Professional Reviews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User reviews/ratings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Series Information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Similar book/series suggestions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Tag searches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Other editions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Lexile Info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500" spc="-1" strike="noStrike">
                <a:solidFill>
                  <a:srgbClr val="414042"/>
                </a:solidFill>
                <a:latin typeface="Arial"/>
              </a:rPr>
              <a:t>Book browser</a:t>
            </a: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5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The Basics: How to Add Content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9120" y="999720"/>
            <a:ext cx="7469280" cy="37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Two options: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III provided integration: Novelist, Syndetics, Chillifresh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Adding content using JavaScrip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728640" indent="-1252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Sierra Web Admin → Encore Customization → JavaScrip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2" marL="728640" indent="-1252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400" spc="-1" strike="noStrike">
              <a:solidFill>
                <a:srgbClr val="414042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creenshot</a:t>
            </a:r>
            <a:endParaRPr b="0" lang="en-US" sz="18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The Basics: Without Customization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9120" y="1000080"/>
            <a:ext cx="746928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creenshot with no custom header or extra JavaScript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Extras” and “Google Preview” added by III. 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Many libraries will also have Novelist Select and ChiliFresh content.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9120" y="471240"/>
            <a:ext cx="746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200" spc="-1" strike="noStrike">
                <a:solidFill>
                  <a:srgbClr val="f7781e"/>
                </a:solidFill>
                <a:latin typeface="Arial"/>
              </a:rPr>
              <a:t>The Basics: Default Location Options</a:t>
            </a:r>
            <a:endParaRPr b="1" lang="en-US" sz="3200" spc="-1" strike="noStrike">
              <a:solidFill>
                <a:srgbClr val="f7781e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9120" y="999720"/>
            <a:ext cx="746928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080" indent="-127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Where content can be added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stom Top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stom Side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  <a:p>
            <a:pPr lvl="1" marL="514440" indent="-173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414042"/>
                </a:solidFill>
                <a:latin typeface="Arial"/>
              </a:rPr>
              <a:t>Custom Bottom</a:t>
            </a:r>
            <a:endParaRPr b="0" lang="en-US" sz="2400" spc="-1" strike="noStrike">
              <a:solidFill>
                <a:srgbClr val="4140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8:13:17Z</dcterms:created>
  <dc:creator/>
  <dc:description/>
  <dc:language>en-US</dc:language>
  <cp:lastModifiedBy/>
  <dcterms:modified xsi:type="dcterms:W3CDTF">2016-03-10T18:15:32Z</dcterms:modified>
  <cp:revision>1</cp:revision>
  <dc:subject/>
  <dc:title/>
</cp:coreProperties>
</file>